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2.gif" ContentType="image/gif"/>
  <Override PartName="/ppt/media/image9.gif" ContentType="image/gif"/>
  <Override PartName="/ppt/media/image8.gif" ContentType="image/gif"/>
  <Override PartName="/ppt/media/image7.png" ContentType="image/png"/>
  <Override PartName="/ppt/media/image4.gif" ContentType="image/gif"/>
  <Override PartName="/ppt/media/image11.gif" ContentType="image/gif"/>
  <Override PartName="/ppt/media/image6.gif" ContentType="image/gif"/>
  <Override PartName="/ppt/media/image20.jpeg" ContentType="image/jpeg"/>
  <Override PartName="/ppt/media/image14.gif" ContentType="image/gif"/>
  <Override PartName="/ppt/media/image18.gif" ContentType="image/gif"/>
  <Override PartName="/ppt/media/image17.gif" ContentType="image/gif"/>
  <Override PartName="/ppt/media/image3.png" ContentType="image/png"/>
  <Override PartName="/ppt/media/image16.png" ContentType="image/png"/>
  <Override PartName="/ppt/media/image15.gif" ContentType="image/gif"/>
  <Override PartName="/ppt/media/image10.gif" ContentType="image/gif"/>
  <Override PartName="/ppt/media/image13.png" ContentType="image/png"/>
  <Override PartName="/ppt/media/image1.png" ContentType="image/png"/>
  <Override PartName="/ppt/media/image21.gif" ContentType="image/gif"/>
  <Override PartName="/ppt/media/image19.gif" ContentType="image/gif"/>
  <Override PartName="/ppt/media/image2.gif" ContentType="image/gif"/>
  <Override PartName="/ppt/media/image5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FB03A-ECDB-49E5-A210-750253882AE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F1E65-8E35-47D7-A793-9489E0AF1F83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31DFF-99C1-469A-8F4A-A99E274E4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52F59-8830-497B-B17E-C74D91A84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14A3A-433F-4A08-94AE-2976624F9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E4BD1-472B-4649-B532-6BD9752D9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5C7EB-1061-42C4-9DB1-12DEEF6CD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FD1EE-7B4E-4D17-B28B-89D06CBC6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B483D-0899-4954-9064-FA6597ADF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66114-6107-498A-90A5-240C5A85B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C5A07-3CBB-4A7D-9741-831E8C81F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72564-F33D-42DC-BA06-A42137A5D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0D368-4F77-445C-8E9F-9BB851394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776E6-7DBD-48BD-BBBA-64AE8A02B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19CB8-7F91-460A-8A17-CA6503BFC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20A80-305C-4A54-8540-6A06188F3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69C8F-6055-44B8-BC81-35E4E8BFA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DEF39-07F1-4903-BBCA-247B35B68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79DD2-E24E-405B-B451-950BF90C1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A1730-9EAA-42E0-8D21-19A3B7878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5DD2C-49B6-4CAA-A1FC-C4094A0F5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5DB7A-9CD5-4BDB-8603-C987A2FB7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B8662-B6FD-4B9B-8EA1-472B2DCA1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24CFE-DBCF-44EA-980D-890DE8A88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BE920-DAA8-415A-B128-1A103CC1E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23E73-44A1-485A-8932-D8D96A5FC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>
                <a:gd name="textAreaLeft" fmla="*/ 0 w 4267080"/>
                <a:gd name="textAreaRight" fmla="*/ 4267440 w 4267080"/>
                <a:gd name="textAreaTop" fmla="*/ 0 h 1942920"/>
                <a:gd name="textAreaBottom" fmla="*/ 1943280 h 1942920"/>
              </a:gdLst>
              <a:ahLst/>
              <a:rect l="textAreaLeft" t="textAreaTop" r="textAreaRight" b="textAreaBottom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>
                <a:gd name="textAreaLeft" fmla="*/ 0 w 3811680"/>
                <a:gd name="textAreaRight" fmla="*/ 3812040 w 3811680"/>
                <a:gd name="textAreaTop" fmla="*/ 0 h 1955880"/>
                <a:gd name="textAreaBottom" fmla="*/ 1956240 h 1955880"/>
              </a:gdLst>
              <a:ahLst/>
              <a:rect l="textAreaLeft" t="textAreaTop" r="textAreaRight" b="textAreaBottom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>
                <a:gd name="textAreaLeft" fmla="*/ 0 w 3124080"/>
                <a:gd name="textAreaRight" fmla="*/ 3124440 w 3124080"/>
                <a:gd name="textAreaTop" fmla="*/ 0 h 1209960"/>
                <a:gd name="textAreaBottom" fmla="*/ 1209960 h 1209960"/>
              </a:gdLst>
              <a:ahLst/>
              <a:rect l="textAreaLeft" t="textAreaTop" r="textAreaRight" b="textAreaBottom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>
                <a:gd name="textAreaLeft" fmla="*/ 0 w 295200"/>
                <a:gd name="textAreaRight" fmla="*/ 295560 w 29520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>
                <a:gd name="textAreaLeft" fmla="*/ 0 w 293760"/>
                <a:gd name="textAreaRight" fmla="*/ 294120 w 293760"/>
                <a:gd name="textAreaTop" fmla="*/ 0 h 190800"/>
                <a:gd name="textAreaBottom" fmla="*/ 191160 h 19080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>
                <a:gd name="textAreaLeft" fmla="*/ 0 w 838080"/>
                <a:gd name="textAreaRight" fmla="*/ 838440 w 838080"/>
                <a:gd name="textAreaTop" fmla="*/ 0 h 436680"/>
                <a:gd name="textAreaBottom" fmla="*/ 436680 h 436680"/>
              </a:gdLst>
              <a:ahLst/>
              <a:rect l="textAreaLeft" t="textAreaTop" r="textAreaRight" b="textAreaBottom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>
                <a:gd name="textAreaLeft" fmla="*/ 0 w 1144800"/>
                <a:gd name="textAreaRight" fmla="*/ 1145160 w 1144800"/>
                <a:gd name="textAreaTop" fmla="*/ 0 h 485640"/>
                <a:gd name="textAreaBottom" fmla="*/ 486000 h 485640"/>
              </a:gdLst>
              <a:ahLst/>
              <a:rect l="textAreaLeft" t="textAreaTop" r="textAreaRight" b="textAreaBottom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>
                <a:gd name="textAreaLeft" fmla="*/ 0 w 3809880"/>
                <a:gd name="textAreaRight" fmla="*/ 3810240 w 3809880"/>
                <a:gd name="textAreaTop" fmla="*/ 0 h 1398600"/>
                <a:gd name="textAreaBottom" fmla="*/ 1398960 h 1398600"/>
              </a:gdLst>
              <a:ahLst/>
              <a:rect l="textAreaLeft" t="textAreaTop" r="textAreaRight" b="textAreaBottom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409320"/>
                <a:gd name="textAreaBottom" fmla="*/ 409680 h 409320"/>
              </a:gdLst>
              <a:ahLst/>
              <a:rect l="textAreaLeft" t="textAreaTop" r="textAreaRight" b="textAreaBottom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>
                <a:gd name="textAreaLeft" fmla="*/ 0 w 1136520"/>
                <a:gd name="textAreaRight" fmla="*/ 1136880 w 113652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>
                <a:gd name="textAreaLeft" fmla="*/ 0 w 4119480"/>
                <a:gd name="textAreaRight" fmla="*/ 4119480 w 4119480"/>
                <a:gd name="textAreaTop" fmla="*/ 0 h 1481040"/>
                <a:gd name="textAreaBottom" fmla="*/ 1481400 h 1481040"/>
              </a:gdLst>
              <a:ahLst/>
              <a:rect l="textAreaLeft" t="textAreaTop" r="textAreaRight" b="textAreaBottom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>
                <a:gd name="textAreaLeft" fmla="*/ 0 w 4322880"/>
                <a:gd name="textAreaRight" fmla="*/ 4323240 w 4322880"/>
                <a:gd name="textAreaTop" fmla="*/ 0 h 1731960"/>
                <a:gd name="textAreaBottom" fmla="*/ 1732320 h 1731960"/>
              </a:gdLst>
              <a:ahLst/>
              <a:rect l="textAreaLeft" t="textAreaTop" r="textAreaRight" b="textAreaBottom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85AAE-E18D-4740-B7B2-EF3C240D7D3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>
                <a:gd name="textAreaLeft" fmla="*/ 0 w 4267080"/>
                <a:gd name="textAreaRight" fmla="*/ 4267440 w 4267080"/>
                <a:gd name="textAreaTop" fmla="*/ 0 h 1942920"/>
                <a:gd name="textAreaBottom" fmla="*/ 1943280 h 1942920"/>
              </a:gdLst>
              <a:ahLst/>
              <a:rect l="textAreaLeft" t="textAreaTop" r="textAreaRight" b="textAreaBottom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>
                <a:gd name="textAreaLeft" fmla="*/ 0 w 3811680"/>
                <a:gd name="textAreaRight" fmla="*/ 3812040 w 3811680"/>
                <a:gd name="textAreaTop" fmla="*/ 0 h 1955880"/>
                <a:gd name="textAreaBottom" fmla="*/ 1956240 h 1955880"/>
              </a:gdLst>
              <a:ahLst/>
              <a:rect l="textAreaLeft" t="textAreaTop" r="textAreaRight" b="textAreaBottom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>
                <a:gd name="textAreaLeft" fmla="*/ 0 w 3124080"/>
                <a:gd name="textAreaRight" fmla="*/ 3124440 w 3124080"/>
                <a:gd name="textAreaTop" fmla="*/ 0 h 1209960"/>
                <a:gd name="textAreaBottom" fmla="*/ 1209960 h 1209960"/>
              </a:gdLst>
              <a:ahLst/>
              <a:rect l="textAreaLeft" t="textAreaTop" r="textAreaRight" b="textAreaBottom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>
                <a:gd name="textAreaLeft" fmla="*/ 0 w 295200"/>
                <a:gd name="textAreaRight" fmla="*/ 295560 w 29520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>
                <a:gd name="textAreaLeft" fmla="*/ 0 w 293760"/>
                <a:gd name="textAreaRight" fmla="*/ 294120 w 293760"/>
                <a:gd name="textAreaTop" fmla="*/ 0 h 190800"/>
                <a:gd name="textAreaBottom" fmla="*/ 191160 h 190800"/>
              </a:gdLst>
              <a:ahLst/>
              <a:rect l="textAreaLeft" t="textAreaTop" r="textAreaRight" b="textAreaBottom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>
                <a:gd name="textAreaLeft" fmla="*/ 0 w 838080"/>
                <a:gd name="textAreaRight" fmla="*/ 838440 w 838080"/>
                <a:gd name="textAreaTop" fmla="*/ 0 h 436680"/>
                <a:gd name="textAreaBottom" fmla="*/ 436680 h 436680"/>
              </a:gdLst>
              <a:ahLst/>
              <a:rect l="textAreaLeft" t="textAreaTop" r="textAreaRight" b="textAreaBottom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>
                <a:gd name="textAreaLeft" fmla="*/ 0 w 1144800"/>
                <a:gd name="textAreaRight" fmla="*/ 1145160 w 1144800"/>
                <a:gd name="textAreaTop" fmla="*/ 0 h 485640"/>
                <a:gd name="textAreaBottom" fmla="*/ 486000 h 485640"/>
              </a:gdLst>
              <a:ahLst/>
              <a:rect l="textAreaLeft" t="textAreaTop" r="textAreaRight" b="textAreaBottom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>
                <a:gd name="textAreaLeft" fmla="*/ 0 w 3809880"/>
                <a:gd name="textAreaRight" fmla="*/ 3810240 w 3809880"/>
                <a:gd name="textAreaTop" fmla="*/ 0 h 1398600"/>
                <a:gd name="textAreaBottom" fmla="*/ 1398960 h 1398600"/>
              </a:gdLst>
              <a:ahLst/>
              <a:rect l="textAreaLeft" t="textAreaTop" r="textAreaRight" b="textAreaBottom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409320"/>
                <a:gd name="textAreaBottom" fmla="*/ 409680 h 409320"/>
              </a:gdLst>
              <a:ahLst/>
              <a:rect l="textAreaLeft" t="textAreaTop" r="textAreaRight" b="textAreaBottom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440"/>
                <a:gd name="textAreaBottom" fmla="*/ 1800 h 1440"/>
              </a:gdLst>
              <a:ahLst/>
              <a:rect l="textAreaLeft" t="textAreaTop" r="textAreaRight" b="textAreaBottom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>
                <a:gd name="textAreaLeft" fmla="*/ 0 w 1136520"/>
                <a:gd name="textAreaRight" fmla="*/ 1136880 w 113652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>
                <a:gd name="textAreaLeft" fmla="*/ 0 w 4119480"/>
                <a:gd name="textAreaRight" fmla="*/ 4119480 w 4119480"/>
                <a:gd name="textAreaTop" fmla="*/ 0 h 1481040"/>
                <a:gd name="textAreaBottom" fmla="*/ 1481400 h 1481040"/>
              </a:gdLst>
              <a:ahLst/>
              <a:rect l="textAreaLeft" t="textAreaTop" r="textAreaRight" b="textAreaBottom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>
                <a:gd name="textAreaLeft" fmla="*/ 0 w 4322880"/>
                <a:gd name="textAreaRight" fmla="*/ 4323240 w 4322880"/>
                <a:gd name="textAreaTop" fmla="*/ 0 h 1731960"/>
                <a:gd name="textAreaBottom" fmla="*/ 1732320 h 1731960"/>
              </a:gdLst>
              <a:ahLst/>
              <a:rect l="textAreaLeft" t="textAreaTop" r="textAreaRight" b="textAreaBottom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E84A6-4C77-4A6E-9CE3-DB80D39703C5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19.gif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&#1044;&#1086;&#1082;&#1091;&#1084;&#1077;&#1085;&#1090;&#1099;%20&#1082;%20&#1087;&#1088;&#1077;&#1079;&#1077;&#1085;&#1090;&#1072;&#1094;&#1080;&#1080;/&#1055;&#1088;&#1086;&#1090;&#1086;&#1082;&#1086;&#1083;&#1099;%20&#1084;&#1086;&#1085;&#1080;&#1090;&#1086;&#1088;&#1080;&#1085;&#1075;&#1072;%202008%20-%202009-&#1074;&#1077;&#1089;&#1085;&#1072;.xls" TargetMode="External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&#1044;&#1086;&#1082;&#1091;&#1084;&#1077;&#1085;&#1090;&#1099;%20&#1082;%20&#1087;&#1088;&#1077;&#1079;&#1077;&#1085;&#1090;&#1072;&#1094;&#1080;&#1080;/&#1056;&#1077;&#1081;&#1090;&#1080;&#1085;&#1075;%201-5%20&#1082;&#1083;.-2008.doc" TargetMode="External"/><Relationship Id="rId2" Type="http://schemas.openxmlformats.org/officeDocument/2006/relationships/hyperlink" Target="file:///&#1044;&#1086;&#1082;&#1091;&#1084;&#1077;&#1085;&#1090;&#1099;%20&#1082;%20&#1087;&#1088;&#1077;&#1079;&#1077;&#1085;&#1090;&#1072;&#1094;&#1080;&#1080;/&#1057;&#1074;&#1086;&#1076;&#1085;&#1072;&#1103;%201-5%20&#1082;&#1083;.-2008.doc" TargetMode="External"/><Relationship Id="rId3" Type="http://schemas.openxmlformats.org/officeDocument/2006/relationships/image" Target="../media/image10.gi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&#1044;&#1086;&#1082;&#1091;&#1084;&#1077;&#1085;&#1090;&#1099;%20&#1082;%20&#1087;&#1088;&#1077;&#1079;&#1077;&#1085;&#1090;&#1072;&#1094;&#1080;&#1080;/&#1042;&#1080;&#1079;&#1080;&#1090;&#1082;&#1072;.pub" TargetMode="External"/><Relationship Id="rId2" Type="http://schemas.openxmlformats.org/officeDocument/2006/relationships/hyperlink" Target="file:///&#1044;&#1086;&#1082;&#1091;&#1084;&#1077;&#1085;&#1090;&#1099;%20&#1082;%20&#1087;&#1088;&#1077;&#1079;&#1077;&#1085;&#1090;&#1072;&#1094;&#1080;&#1080;/&#1042;&#1080;&#1079;&#1080;&#1090;&#1082;&#1072;.pub" TargetMode="External"/><Relationship Id="rId3" Type="http://schemas.openxmlformats.org/officeDocument/2006/relationships/image" Target="../media/image11.gi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/&#1044;&#1086;&#1082;&#1091;&#1084;&#1077;&#1085;&#1090;&#1099;%20&#1082;%20&#1087;&#1088;&#1077;&#1079;&#1077;&#1085;&#1090;&#1072;&#1094;&#1080;&#1080;/&#1054;&#1090;&#1082;&#1088;&#1099;&#1090;&#1082;&#1072;%20&#1088;&#1086;&#1076;&#1080;&#1090;&#1077;&#1083;&#1103;&#1084;%20&#1086;%20&#1089;&#1077;&#1082;&#1094;&#1080;&#1080;.pub" TargetMode="External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b9efee"/>
                </a:solidFill>
                <a:latin typeface="Garamond"/>
              </a:rPr>
              <a:t>Добрый день! </a:t>
            </a:r>
            <a:endParaRPr b="1" lang="en-US" sz="66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22" name="Рисунок 5" descr="j0219113.gif"/>
          <p:cNvPicPr/>
          <p:nvPr/>
        </p:nvPicPr>
        <p:blipFill>
          <a:blip r:embed="rId1"/>
          <a:stretch/>
        </p:blipFill>
        <p:spPr>
          <a:xfrm>
            <a:off x="2057400" y="2971800"/>
            <a:ext cx="4890960" cy="2720880"/>
          </a:xfrm>
          <a:prstGeom prst="rect">
            <a:avLst/>
          </a:prstGeom>
          <a:ln w="0">
            <a:noFill/>
          </a:ln>
        </p:spPr>
      </p:pic>
      <p:sp>
        <p:nvSpPr>
          <p:cNvPr id="123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5C47B-850F-4A93-9F53-609E88DFCA7E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4" name="E. Morricone - Le vent, le cri.mp3" descr=""/>
          <p:cNvPicPr/>
          <p:nvPr/>
        </p:nvPicPr>
        <p:blipFill>
          <a:blip r:embed="rId2"/>
          <a:stretch/>
        </p:blipFill>
        <p:spPr>
          <a:xfrm>
            <a:off x="533520" y="4572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Информационный бюллетень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8288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1160" indent="-28116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1160" indent="-28116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1160" indent="-28116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1160" indent="-28116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1160" indent="-2811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81160" indent="-28116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 программе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icrosoft Office Publisher 2007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1160" indent="-28116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1160" indent="-281160"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Garamond"/>
              </a:rPr>
              <a:t>Документы к презентации\Физкульт-Ура-бюллетень.</a:t>
            </a:r>
            <a:r>
              <a:rPr b="1" lang="en-US" sz="1200" spc="-1" strike="noStrike">
                <a:solidFill>
                  <a:srgbClr val="ffffff"/>
                </a:solidFill>
                <a:latin typeface="Garamond"/>
              </a:rPr>
              <a:t>doc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281160" indent="-28116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281160" indent="-28116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8" name="Рисунок 4" descr="fundisk2.gif"/>
          <p:cNvPicPr/>
          <p:nvPr/>
        </p:nvPicPr>
        <p:blipFill>
          <a:blip r:embed="rId1"/>
          <a:stretch/>
        </p:blipFill>
        <p:spPr>
          <a:xfrm>
            <a:off x="2514600" y="1447920"/>
            <a:ext cx="373392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9efee"/>
                </a:solidFill>
                <a:latin typeface="Garamond"/>
              </a:rPr>
              <a:t>Компьютерные презентации учителя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80520" y="190512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5bd29"/>
                </a:solidFill>
                <a:latin typeface="Garamond"/>
              </a:rPr>
              <a:t>В программе </a:t>
            </a:r>
            <a:r>
              <a:rPr b="0" lang="en-US" sz="3200" spc="-1" strike="noStrike">
                <a:solidFill>
                  <a:srgbClr val="45bd29"/>
                </a:solidFill>
                <a:latin typeface="Garamond"/>
              </a:rPr>
              <a:t>Microsoft Office PowerPoint </a:t>
            </a:r>
            <a:r>
              <a:rPr b="0" lang="ru-RU" sz="3200" spc="-1" strike="noStrike">
                <a:solidFill>
                  <a:srgbClr val="45bd29"/>
                </a:solidFill>
                <a:latin typeface="Garamond"/>
              </a:rPr>
              <a:t>200</a:t>
            </a:r>
            <a:r>
              <a:rPr b="0" lang="en-US" sz="3200" spc="-1" strike="noStrike">
                <a:solidFill>
                  <a:srgbClr val="45bd29"/>
                </a:solidFill>
                <a:latin typeface="Garamond"/>
              </a:rPr>
              <a:t>7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На аттестацию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На грант Президента Российской Федерации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На конкурс РМЭ «Учитель-новатор» - «Использование нестандартного инвентаря из подсобного материала»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Национальная образовательная инициатива «Наша новая школа»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Привитие учащимся навыков здорового образа жизни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Педагогическая практика студентов ФФК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ШМО учителей творческих предметов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Работа с одарёнными детьми по физкультуре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ИКТ в работе учителя физкультуры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499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И другие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89561-E5F3-48F4-B3C3-82D0CF84246B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2" name="Рисунок 4" descr="ani_comptable.gif"/>
          <p:cNvPicPr/>
          <p:nvPr/>
        </p:nvPicPr>
        <p:blipFill>
          <a:blip r:embed="rId1"/>
          <a:stretch/>
        </p:blipFill>
        <p:spPr>
          <a:xfrm>
            <a:off x="7010280" y="4811760"/>
            <a:ext cx="1697040" cy="182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1000"/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1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1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9efee"/>
                </a:solidFill>
                <a:latin typeface="Garamond"/>
              </a:rPr>
              <a:t>Проектная деятельность учащихся 3-5 классов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6840" y="152388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5bd29"/>
                </a:solidFill>
                <a:latin typeface="Garamond"/>
              </a:rPr>
              <a:t>В программе </a:t>
            </a:r>
            <a:r>
              <a:rPr b="0" lang="en-US" sz="2800" spc="-1" strike="noStrike">
                <a:solidFill>
                  <a:srgbClr val="45bd29"/>
                </a:solidFill>
                <a:latin typeface="Garamond"/>
              </a:rPr>
              <a:t>Microsoft Office PowerPoint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45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Garamond"/>
              </a:rPr>
              <a:t>Белова Юлия, 3а – «Гимнастика»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45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Garamond"/>
              </a:rPr>
              <a:t>Шарнина Полина, 4а – «Кёрлинг»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45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Garamond"/>
              </a:rPr>
              <a:t>Челышев Александр, 4а – «Плавание»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45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Garamond"/>
              </a:rPr>
              <a:t>Кузнецова Оксана, 4а – «Спорт»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45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Garamond"/>
              </a:rPr>
              <a:t>Никитина Елена, 5а - «Здоровый образ жизни»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45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Garamond"/>
              </a:rPr>
              <a:t>Пушкарёва Анастасия, 5а – «Футбол»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45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Garamond"/>
              </a:rPr>
              <a:t>Глазырина Анастасия, 5б – «Конный спорт»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45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Garamond"/>
              </a:rPr>
              <a:t>Яранцева Алиса, 5б – «Плавание»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45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Garamond"/>
              </a:rPr>
              <a:t>Лебедев Илья, 5б – «Футбол»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45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Garamond"/>
              </a:rPr>
              <a:t>Кукушкина Ольга, 5б  - «Футбол»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45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Garamond"/>
              </a:rPr>
              <a:t>Миклин Иван, 3в – «Дзюдо»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45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Garamond"/>
              </a:rPr>
              <a:t>Вершинин Никита, 3а – «Футбол»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451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Garamond"/>
              </a:rPr>
              <a:t>Косулина Валентина, 3а – «Художественная гимнастика»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Garamond"/>
              </a:rPr>
              <a:t>Документы к презентации\Ученики. Первые презентации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3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5" name="Рисунок 4" descr="cdrom.gif"/>
          <p:cNvPicPr/>
          <p:nvPr/>
        </p:nvPicPr>
        <p:blipFill>
          <a:blip r:embed="rId1"/>
          <a:stretch/>
        </p:blipFill>
        <p:spPr>
          <a:xfrm>
            <a:off x="5410080" y="2286000"/>
            <a:ext cx="3219480" cy="32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10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10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1000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1000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1000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1000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1000"/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1000"/>
                                        <p:tgtEl>
                                          <p:spTgt spid="1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1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1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1000"/>
                                        <p:tgtEl>
                                          <p:spTgt spid="1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1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1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9" dur="1000"/>
                                        <p:tgtEl>
                                          <p:spTgt spid="1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1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1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6" dur="1000"/>
                                        <p:tgtEl>
                                          <p:spTgt spid="16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16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16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3" dur="1000"/>
                                        <p:tgtEl>
                                          <p:spTgt spid="16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16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16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1000"/>
                                        <p:tgtEl>
                                          <p:spTgt spid="16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6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6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9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6400800" cy="12654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Электронный тренажёр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Компьютерный тренажёр по проверке знаний по предмету «Физическая культура»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81160" indent="-28116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Для подготовки к Олимпиаде по теоретическому тестированию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81160" indent="-28116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В программе «Создатель тестов»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81160" indent="-28116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Каждый тест состоит из 30 вопросов с четырьмя вариантами ответов, один из которых правильный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81160" indent="-28116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По окончании теста тренажёр автоматически выставляет оценку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81160" indent="-281160"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81160" indent="-281160"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Garamond"/>
              </a:rPr>
              <a:t>Документы к презентации\Электронный тренажёр с тестами по физической культуре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8" name="Номер слайда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A1ACC-39A1-410F-93F6-24A8DF72484D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9" name="Рисунок 6" descr="Wagon.gif"/>
          <p:cNvPicPr/>
          <p:nvPr/>
        </p:nvPicPr>
        <p:blipFill>
          <a:blip r:embed="rId1"/>
          <a:stretch/>
        </p:blipFill>
        <p:spPr>
          <a:xfrm>
            <a:off x="6705720" y="304920"/>
            <a:ext cx="2095560" cy="10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7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4" dur="5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8" dur="5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5" dur="5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4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4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4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5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5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b9efee"/>
                </a:solidFill>
                <a:latin typeface="Garamond"/>
              </a:rPr>
              <a:t>Консультации учащихся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6840" y="1523520"/>
            <a:ext cx="426708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4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Garamond"/>
              </a:rPr>
              <a:t>По созданию компьютерной  презентации в программе</a:t>
            </a: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  Microsoft Office PowerPoint 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64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Garamond"/>
              </a:rPr>
              <a:t>По электронной почте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64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Garamond"/>
              </a:rPr>
              <a:t>С помощью программы </a:t>
            </a: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ICQ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64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Garamond"/>
              </a:rPr>
              <a:t>С помощью программы </a:t>
            </a: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Skype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64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Garamond"/>
              </a:rPr>
              <a:t>На персональном сайте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2" name="Рисунок 3" descr="Девочка.gif"/>
          <p:cNvPicPr/>
          <p:nvPr/>
        </p:nvPicPr>
        <p:blipFill>
          <a:blip r:embed="rId1"/>
          <a:stretch/>
        </p:blipFill>
        <p:spPr>
          <a:xfrm>
            <a:off x="5867280" y="2514600"/>
            <a:ext cx="2590920" cy="3062160"/>
          </a:xfrm>
          <a:prstGeom prst="rect">
            <a:avLst/>
          </a:prstGeom>
          <a:ln w="0">
            <a:noFill/>
          </a:ln>
        </p:spPr>
      </p:pic>
      <p:sp>
        <p:nvSpPr>
          <p:cNvPr id="173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C49C6-08E2-43CC-906A-CD210A53DBED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4" dur="indefinite" restart="never" nodeType="tmRoot">
          <p:childTnLst>
            <p:seq>
              <p:cTn id="555" dur="indefinite" nodeType="mainSeq">
                <p:childTnLst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5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2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9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6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7086600" cy="16765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b9efee"/>
                </a:solidFill>
                <a:latin typeface="Garamond"/>
              </a:rPr>
              <a:t>Персональный сайт учителя </a:t>
            </a:r>
            <a:endParaRPr b="1" lang="en-US" sz="72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2590920"/>
            <a:ext cx="830592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Garamond"/>
              </a:rPr>
              <a:t>   </a:t>
            </a:r>
            <a:r>
              <a:rPr b="1" lang="en-US" sz="6000" spc="-1" strike="noStrike">
                <a:solidFill>
                  <a:srgbClr val="ff0000"/>
                </a:solidFill>
                <a:latin typeface="Berlin Sans FB"/>
              </a:rPr>
              <a:t>fizkultira.ucoz.com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                   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6" name="Номер слайда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7C221-59D4-429C-8A52-BA884A2E8D7F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7" name="Рисунок 5" descr="201.gif"/>
          <p:cNvPicPr/>
          <p:nvPr/>
        </p:nvPicPr>
        <p:blipFill>
          <a:blip r:embed="rId1"/>
          <a:stretch/>
        </p:blipFill>
        <p:spPr>
          <a:xfrm>
            <a:off x="4191120" y="5715000"/>
            <a:ext cx="1695240" cy="847800"/>
          </a:xfrm>
          <a:prstGeom prst="rect">
            <a:avLst/>
          </a:prstGeom>
          <a:ln w="0">
            <a:noFill/>
          </a:ln>
        </p:spPr>
      </p:pic>
      <p:pic>
        <p:nvPicPr>
          <p:cNvPr id="178" name="Рисунок 6" descr="0022.gif"/>
          <p:cNvPicPr/>
          <p:nvPr/>
        </p:nvPicPr>
        <p:blipFill>
          <a:blip r:embed="rId2"/>
          <a:stretch/>
        </p:blipFill>
        <p:spPr>
          <a:xfrm>
            <a:off x="7467480" y="685800"/>
            <a:ext cx="1486080" cy="1189080"/>
          </a:xfrm>
          <a:prstGeom prst="rect">
            <a:avLst/>
          </a:prstGeom>
          <a:ln w="0">
            <a:noFill/>
          </a:ln>
        </p:spPr>
      </p:pic>
      <p:sp>
        <p:nvSpPr>
          <p:cNvPr id="179" name="TextBox 7"/>
          <p:cNvSpPr/>
          <p:nvPr/>
        </p:nvSpPr>
        <p:spPr>
          <a:xfrm>
            <a:off x="6477120" y="6172200"/>
            <a:ext cx="2133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aramond"/>
              </a:rPr>
              <a:t>http://fizkultira.ucoz.com/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0" name="Рисунок 8" descr="LCD.JPG"/>
          <p:cNvPicPr/>
          <p:nvPr/>
        </p:nvPicPr>
        <p:blipFill>
          <a:blip r:embed="rId3"/>
          <a:stretch/>
        </p:blipFill>
        <p:spPr>
          <a:xfrm>
            <a:off x="762120" y="3962520"/>
            <a:ext cx="259056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9" dur="indefinite" restart="never" nodeType="tmRoot">
          <p:childTnLst>
            <p:seq>
              <p:cTn id="600" dur="indefinite" nodeType="mainSeq">
                <p:childTnLst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3" dur="8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7,-76,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4" dur="8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7,-76,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5" dur="8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2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9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4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4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4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4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4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066680" y="456840"/>
            <a:ext cx="6934320" cy="35053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b9efee"/>
                </a:solidFill>
                <a:latin typeface="Garamond"/>
              </a:rPr>
              <a:t>Спасибо </a:t>
            </a:r>
            <a:br>
              <a:rPr sz="8800"/>
            </a:br>
            <a:r>
              <a:rPr b="1" lang="ru-RU" sz="8800" spc="-1" strike="noStrike">
                <a:solidFill>
                  <a:srgbClr val="b9efee"/>
                </a:solidFill>
                <a:latin typeface="Garamond"/>
              </a:rPr>
              <a:t>за</a:t>
            </a:r>
            <a:br>
              <a:rPr sz="8800"/>
            </a:br>
            <a:r>
              <a:rPr b="1" lang="ru-RU" sz="8800" spc="-1" strike="noStrike">
                <a:solidFill>
                  <a:srgbClr val="b9efee"/>
                </a:solidFill>
                <a:latin typeface="Garamond"/>
              </a:rPr>
              <a:t> внимание !!!</a:t>
            </a:r>
            <a:endParaRPr b="1" lang="en-US" sz="88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82" name="Рисунок 3" descr="j0282886.gif"/>
          <p:cNvPicPr/>
          <p:nvPr/>
        </p:nvPicPr>
        <p:blipFill>
          <a:blip r:embed="rId1"/>
          <a:stretch/>
        </p:blipFill>
        <p:spPr>
          <a:xfrm>
            <a:off x="3429000" y="4724280"/>
            <a:ext cx="2165400" cy="1676520"/>
          </a:xfrm>
          <a:prstGeom prst="rect">
            <a:avLst/>
          </a:prstGeom>
          <a:ln w="0">
            <a:noFill/>
          </a:ln>
        </p:spPr>
      </p:pic>
      <p:sp>
        <p:nvSpPr>
          <p:cNvPr id="183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31771-00E5-4C80-A5B3-4720E7186922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8" dur="indefinite" restart="never" nodeType="tmRoot">
          <p:childTnLst>
            <p:seq>
              <p:cTn id="649" dur="indefinite" nodeType="mainSeq">
                <p:childTnLst>
                  <p:par>
                    <p:cTn id="650" fill="hold">
                      <p:stCondLst>
                        <p:cond delay="0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4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b9efee"/>
                </a:solidFill>
                <a:latin typeface="Garamond"/>
              </a:rPr>
              <a:t>ИКТ</a:t>
            </a:r>
            <a:br>
              <a:rPr sz="7200"/>
            </a:br>
            <a:r>
              <a:rPr b="1" lang="ru-RU" sz="7200" spc="-1" strike="noStrike">
                <a:solidFill>
                  <a:srgbClr val="b9efee"/>
                </a:solidFill>
                <a:latin typeface="Garamond"/>
              </a:rPr>
              <a:t>в работе учителя</a:t>
            </a:r>
            <a:endParaRPr b="1" lang="en-US" sz="72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85440" y="594324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МОУ «Средняя общеобразовательная школа № 10 г. Йошкар-Олы»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2009 год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Text Box 4"/>
          <p:cNvSpPr/>
          <p:nvPr/>
        </p:nvSpPr>
        <p:spPr>
          <a:xfrm>
            <a:off x="1752480" y="4114800"/>
            <a:ext cx="5867640" cy="14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«Физическая культура»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читель – Цилюрик И.П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88200-263C-4915-80C5-6019461F3D1B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9" name="Рисунок 8" descr="AG00334_.gif"/>
          <p:cNvPicPr/>
          <p:nvPr/>
        </p:nvPicPr>
        <p:blipFill>
          <a:blip r:embed="rId1"/>
          <a:stretch/>
        </p:blipFill>
        <p:spPr>
          <a:xfrm>
            <a:off x="7162920" y="380880"/>
            <a:ext cx="1495440" cy="1362240"/>
          </a:xfrm>
          <a:prstGeom prst="rect">
            <a:avLst/>
          </a:prstGeom>
          <a:ln w="0">
            <a:noFill/>
          </a:ln>
        </p:spPr>
      </p:pic>
      <p:pic>
        <p:nvPicPr>
          <p:cNvPr id="130" name="Рисунок 10" descr="j0336396.gif"/>
          <p:cNvPicPr/>
          <p:nvPr/>
        </p:nvPicPr>
        <p:blipFill>
          <a:blip r:embed="rId2"/>
          <a:stretch/>
        </p:blipFill>
        <p:spPr>
          <a:xfrm>
            <a:off x="457200" y="380880"/>
            <a:ext cx="1371600" cy="1371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Содержимое 5" descr="comp018.gif"/>
          <p:cNvPicPr/>
          <p:nvPr/>
        </p:nvPicPr>
        <p:blipFill>
          <a:blip r:embed="rId1"/>
          <a:stretch/>
        </p:blipFill>
        <p:spPr>
          <a:xfrm>
            <a:off x="2286000" y="1371600"/>
            <a:ext cx="5054760" cy="4629240"/>
          </a:xfrm>
          <a:prstGeom prst="rect">
            <a:avLst/>
          </a:prstGeom>
          <a:ln w="0">
            <a:noFill/>
          </a:ln>
        </p:spPr>
      </p:pic>
      <p:sp>
        <p:nvSpPr>
          <p:cNvPr id="132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EAE4F-624F-45AC-B7C0-08788168ACCF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b9efee"/>
                </a:solidFill>
                <a:latin typeface="Garamond"/>
              </a:rPr>
              <a:t>Электронный журнал</a:t>
            </a:r>
            <a:endParaRPr b="1" lang="en-US" sz="6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51920" y="1600200"/>
            <a:ext cx="89917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Garamond"/>
              </a:rPr>
              <a:t>В программе 1С конфигурация «ХроноГраф»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" name="Номер слайда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6AA84-4EC1-49CB-A8BB-ABAD23061C7D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6" name="Рисунок 5" descr="computerkey_color.gif"/>
          <p:cNvPicPr/>
          <p:nvPr/>
        </p:nvPicPr>
        <p:blipFill>
          <a:blip r:embed="rId1"/>
          <a:stretch/>
        </p:blipFill>
        <p:spPr>
          <a:xfrm>
            <a:off x="2743200" y="2743200"/>
            <a:ext cx="3510000" cy="36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" dur="8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7,-76,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" dur="8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7,-76,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" dur="8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935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Мониторинг физической подготовленности учащихся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860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4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Garamond"/>
              </a:rPr>
              <a:t>Цель-определение уровня физической подготовленности учащихся и рейтинга по классам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64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Garamond"/>
              </a:rPr>
              <a:t>2 раза в год (осенью и весной) проводится тестирование учащихся для определения уровня развития физических качеств: быстроты, ловкости, силы, гибкости, выносливости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64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Garamond"/>
              </a:rPr>
              <a:t>Результаты оформляются в электронном виде, доводятся до сведения учащихся и родителей, вывешиваются на информационный стенд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9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29D19-64A5-4F86-8084-9DD8E7924048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0" name="Рисунок 4" descr="bodybuilder_pullups_md_wht.gif"/>
          <p:cNvPicPr/>
          <p:nvPr/>
        </p:nvPicPr>
        <p:blipFill>
          <a:blip r:embed="rId1"/>
          <a:stretch/>
        </p:blipFill>
        <p:spPr>
          <a:xfrm>
            <a:off x="7543800" y="4572000"/>
            <a:ext cx="1219320" cy="202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Мониторинг физической подготовленности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20574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 программе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icrosoft Office Excel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2007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2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2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2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ff99"/>
                </a:solidFill>
                <a:uFillTx/>
                <a:latin typeface="Garamond"/>
                <a:hlinkClick r:id="rId1"/>
              </a:rPr>
              <a:t>Документы к презентации\Протоколы мониторинга 2008 - 2009-весна.xl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3" name="Рисунок 6" descr="С мячом.gif"/>
          <p:cNvPicPr/>
          <p:nvPr/>
        </p:nvPicPr>
        <p:blipFill>
          <a:blip r:embed="rId2"/>
          <a:stretch/>
        </p:blipFill>
        <p:spPr>
          <a:xfrm>
            <a:off x="2514600" y="1828800"/>
            <a:ext cx="3730680" cy="280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Рейтинг физической подготовленности по классам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22096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34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 программе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Microsoft Office Word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2007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ff99"/>
                </a:solidFill>
                <a:uFillTx/>
                <a:latin typeface="Garamond"/>
                <a:hlinkClick r:id="rId1"/>
              </a:rPr>
              <a:t>Документы к презентации\Рейтинг 1-5 кл.-2008.doc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ff99"/>
                </a:solidFill>
                <a:uFillTx/>
                <a:latin typeface="Garamond"/>
                <a:hlinkClick r:id="rId2"/>
              </a:rPr>
              <a:t>Документы к презентации\Сводная 1-5 кл.-2008.doc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6" name="Рисунок 3" descr="AG00583_.gif"/>
          <p:cNvPicPr/>
          <p:nvPr/>
        </p:nvPicPr>
        <p:blipFill>
          <a:blip r:embed="rId3"/>
          <a:stretch/>
        </p:blipFill>
        <p:spPr>
          <a:xfrm>
            <a:off x="2819520" y="2438280"/>
            <a:ext cx="3095640" cy="1905120"/>
          </a:xfrm>
          <a:prstGeom prst="rect">
            <a:avLst/>
          </a:prstGeom>
          <a:ln w="0">
            <a:noFill/>
          </a:ln>
        </p:spPr>
      </p:pic>
      <p:sp>
        <p:nvSpPr>
          <p:cNvPr id="147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9E17D-AFB9-4569-BF67-ABE06FEE66D0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9efee"/>
                </a:solidFill>
                <a:latin typeface="Garamond"/>
              </a:rPr>
              <a:t>Визитка учителя </a:t>
            </a:r>
            <a:r>
              <a:rPr b="1" lang="en-US" sz="4800" spc="-1" strike="noStrike">
                <a:solidFill>
                  <a:srgbClr val="b9efee"/>
                </a:solidFill>
                <a:latin typeface="Garamond"/>
              </a:rPr>
              <a:t>c </a:t>
            </a:r>
            <a:r>
              <a:rPr b="1" lang="ru-RU" sz="4800" spc="-1" strike="noStrike">
                <a:solidFill>
                  <a:srgbClr val="b9efee"/>
                </a:solidFill>
                <a:latin typeface="Garamond"/>
              </a:rPr>
              <a:t>указанием возможных контактов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259056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45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 программе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icrosoft Office Publisher 2007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2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2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ff99"/>
                </a:solidFill>
                <a:uFillTx/>
                <a:latin typeface="Garamond"/>
                <a:hlinkClick r:id="rId1"/>
              </a:rPr>
              <a:t>Документы к презентации\Визитка.</a:t>
            </a:r>
            <a:r>
              <a:rPr b="0" lang="en-US" sz="1200" spc="-1" strike="noStrike" u="sng">
                <a:solidFill>
                  <a:srgbClr val="00ff99"/>
                </a:solidFill>
                <a:uFillTx/>
                <a:latin typeface="Garamond"/>
                <a:hlinkClick r:id="rId2"/>
              </a:rPr>
              <a:t>pub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0" name="Рисунок 6" descr="email1.gif"/>
          <p:cNvPicPr/>
          <p:nvPr/>
        </p:nvPicPr>
        <p:blipFill>
          <a:blip r:embed="rId3"/>
          <a:stretch/>
        </p:blipFill>
        <p:spPr>
          <a:xfrm>
            <a:off x="3657600" y="2286000"/>
            <a:ext cx="1981080" cy="2616120"/>
          </a:xfrm>
          <a:prstGeom prst="rect">
            <a:avLst/>
          </a:prstGeom>
          <a:ln w="0">
            <a:noFill/>
          </a:ln>
        </p:spPr>
      </p:pic>
      <p:sp>
        <p:nvSpPr>
          <p:cNvPr id="151" name="Номер слайда 5"/>
          <p:cNvSpPr/>
          <p:nvPr/>
        </p:nvSpPr>
        <p:spPr>
          <a:xfrm>
            <a:off x="6095880" y="6477120"/>
            <a:ext cx="2590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2207B-4C7A-4CCD-ACD6-1E8162A94C08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b9efee"/>
                </a:solidFill>
                <a:latin typeface="Garamond"/>
              </a:rPr>
              <a:t>Информационная открытка родителям 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2514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45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 программе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icrosoft Office Publisher 2007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ff99"/>
                </a:solidFill>
                <a:uFillTx/>
                <a:latin typeface="Garamond"/>
                <a:hlinkClick r:id="rId1"/>
              </a:rPr>
              <a:t>Документы к презентации\Открытка родителям о секции.pub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4" name="Рисунок 4" descr="ani-lap.gif"/>
          <p:cNvPicPr/>
          <p:nvPr/>
        </p:nvPicPr>
        <p:blipFill>
          <a:blip r:embed="rId2"/>
          <a:stretch/>
        </p:blipFill>
        <p:spPr>
          <a:xfrm>
            <a:off x="3581280" y="2362320"/>
            <a:ext cx="1981440" cy="2224080"/>
          </a:xfrm>
          <a:prstGeom prst="rect">
            <a:avLst/>
          </a:prstGeom>
          <a:ln w="0">
            <a:noFill/>
          </a:ln>
        </p:spPr>
      </p:pic>
      <p:sp>
        <p:nvSpPr>
          <p:cNvPr id="155" name="Номер слайда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D2705-C546-4805-8532-DE927B0847CC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9T04:46:00Z</dcterms:created>
  <dc:creator>Sandy Somera</dc:creator>
  <dc:description/>
  <dc:language>en-US</dc:language>
  <cp:lastModifiedBy>Ирина Петровна</cp:lastModifiedBy>
  <dcterms:modified xsi:type="dcterms:W3CDTF">2009-11-15T08:03:49Z</dcterms:modified>
  <cp:revision>236</cp:revision>
  <dc:subject/>
  <dc:title>Team Name</dc:title>
</cp:coreProperties>
</file>